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CE9-AFE0-40E3-92C9-E8B4DEB8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C31-D261-4111-959C-FE69022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C03-FDB1-433C-8DD6-57174753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572-2FE9-4AF9-B58B-A7C6C4EE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A434-E77A-4346-ABEA-11D60252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035-EE04-498F-B490-0E305849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741-98BA-4C80-BD75-A9F987E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1AF4-9FD8-4622-A94C-1A16262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DB2-38DB-4C10-9D2E-18AC57D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3FD7-D915-4872-92C5-0DBA149D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37E8-E00B-454F-9334-FC5C7DB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892-A99D-46B2-9C8B-6A469AF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DAB-B2CB-480C-BB8A-CC9FE61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C62-6F8E-4CA4-ADB7-4AEE66C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CE32-4A1A-44BC-B742-FB05F73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856-BD96-493A-A182-82F56249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B615-86D5-4E1A-865C-824F55B4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BCD-3941-4AF4-9D87-EB306E5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9AA-77E5-4F83-9135-BFE90FC8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71C-0DD6-4E0F-ABCF-C2B875DD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AA6-C5DD-4D05-9D97-1A59EB9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3DD-B0B7-4935-B649-417E8EA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9B7-5A09-4501-8216-3474138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A36-5A18-48C0-AA37-D8D00E0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CB7-CD4A-4894-9A3C-7684511081C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705-C6AB-4FCB-A505-C5A56CA0F53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048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apter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toms, Elements, and the Periodic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J Thom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ed that electricity flowed from negative to positive components of a sealed tube and could be bent by a mag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ew that opposites attract and the beam was traveling towards a positive charge, so therefore the beam must be made of negatively charged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s- subatomic particles with a negative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 what keeps us from being electrocut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get a shock when you touch everything, so what must also be present in the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sitively charged part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10, his team shot gold foil with alpha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ly charged part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all of the alpha particles did not pass through the foil, he predicted that most of the atom was made up of empty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erford’s results provided him with information to name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- Positively charged central part of the 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prot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mes Chadw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ant to Ruther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ed the neutron- neutral particle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is data when he noticed that the gold atoms in the foil had released some mass with no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unknown mass is what Chadwick called the neu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8 on pg.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odel is the accepted atomic model (Bohr’s Mod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 the negatively charged electron cloud and the positively charged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science has advanced atom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and electrons have whole charges +1 or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cles in the nucleus are now broken down into even smaller particles called qu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particles are identified by their spin pattern and have a fractional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, down, strange, charmed, top, and bott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implest Ma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- matter made up of only one kind of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115 elements are known and 90 of them occur naturally o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natural elements are known as synthetic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ed from nuclear reactions in machines known as particle accel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ing the El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itri Mendeleev organized the first periodic table in order of each element’s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able only included 60 known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dern Periodic Table is organized by 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tructure and Organiz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48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09480" y="1981080"/>
            <a:ext cx="3467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229280" y="1981080"/>
            <a:ext cx="3466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n Ato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tom is the simplest form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made of three  majo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rot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ve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lectr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 Charge, In the Shells and Orbi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utron -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Draw an At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352680" y="2666880"/>
            <a:ext cx="2590920" cy="2438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581280" y="3200400"/>
            <a:ext cx="60984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812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4191120" y="441972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743200" y="2057400"/>
            <a:ext cx="4038480" cy="380988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114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657600" y="388620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5410080" y="533412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4876920" y="2895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343400" y="3581280"/>
            <a:ext cx="609480" cy="609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1752480" y="1523880"/>
            <a:ext cx="6096240" cy="518184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6705720" y="1981080"/>
            <a:ext cx="60948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35053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68580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548640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ce a few things about our atom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prot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neu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object in the cen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ring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are on the outside 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prot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is also the atomic number of the atom/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, atomic symbol H, has 1 proton since it is element #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protons does each of these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ryllium, Oxygen, Nitrogen, Xenon, Carb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the element with the number of protons sh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 27, 5,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Neu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add the number of neutrons and protons, you get the atomic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decimal number underneath the 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gnesium is element #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prot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atomic mass is 24.3050, which rounds to 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neutrons does Magnesium ha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are the negatively charged particles located in the ring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exactly the same number of protons as there are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dium – Atomic Number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icon – Atomic Number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senic – Atomic Number 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thing in the cen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two particles are in the nucleu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overall charge does the nucleus ha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ring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rings tells you on which row the element is lo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has how many r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rings does Helium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Carb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outer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uter ring electrons are called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tell you to which column or family the element belo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Note: This only applies to families 1,2 and 13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valence electrons does Hydrogen have? Neon? Aluminu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for Rules on Ring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ng Ru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ner ring, #1, can only have 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cond ring can have up to 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ring can have up to 1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ourth ring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rings up to ring #7, the last ring,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VOCAB: Energy Level – the rings containing electrons are actually called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into your Science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materials provided as I give you di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Will you see all three states of matter in this lab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your 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753400" cy="64771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3808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8380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6248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7816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2388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6960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81532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86104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8534520" y="380880"/>
            <a:ext cx="457200" cy="685800"/>
          </a:xfrm>
          <a:prstGeom prst="rect">
            <a:avLst/>
          </a:prstGeom>
          <a:noFill/>
          <a:ln w="82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137160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ransition Metals DO NOT Follow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058320" cy="54864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175248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aming the Elemental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TextBox 5" descr=""/>
          <p:cNvPicPr/>
          <p:nvPr/>
        </p:nvPicPr>
        <p:blipFill>
          <a:blip r:embed="rId2"/>
          <a:stretch/>
        </p:blipFill>
        <p:spPr>
          <a:xfrm>
            <a:off x="-19080" y="-6480"/>
            <a:ext cx="641520" cy="154944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6" descr=""/>
          <p:cNvPicPr/>
          <p:nvPr/>
        </p:nvPicPr>
        <p:blipFill>
          <a:blip r:embed="rId3"/>
          <a:stretch/>
        </p:blipFill>
        <p:spPr>
          <a:xfrm>
            <a:off x="450720" y="-212760"/>
            <a:ext cx="567000" cy="233352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7" descr=""/>
          <p:cNvPicPr/>
          <p:nvPr/>
        </p:nvPicPr>
        <p:blipFill>
          <a:blip r:embed="rId4"/>
          <a:stretch/>
        </p:blipFill>
        <p:spPr>
          <a:xfrm>
            <a:off x="7997760" y="450720"/>
            <a:ext cx="560520" cy="167004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8" descr=""/>
          <p:cNvPicPr/>
          <p:nvPr/>
        </p:nvPicPr>
        <p:blipFill>
          <a:blip r:embed="rId5"/>
          <a:stretch/>
        </p:blipFill>
        <p:spPr>
          <a:xfrm>
            <a:off x="8528040" y="-237960"/>
            <a:ext cx="476280" cy="178560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0"/>
          <p:cNvSpPr/>
          <p:nvPr/>
        </p:nvSpPr>
        <p:spPr>
          <a:xfrm flipH="1">
            <a:off x="6170760" y="1982880"/>
            <a:ext cx="288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11"/>
          <p:cNvSpPr/>
          <p:nvPr/>
        </p:nvSpPr>
        <p:spPr>
          <a:xfrm flipH="1">
            <a:off x="6172200" y="251460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traight Connector 14"/>
          <p:cNvSpPr/>
          <p:nvPr/>
        </p:nvSpPr>
        <p:spPr>
          <a:xfrm flipH="1">
            <a:off x="6705720" y="2514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15"/>
          <p:cNvSpPr/>
          <p:nvPr/>
        </p:nvSpPr>
        <p:spPr>
          <a:xfrm flipH="1">
            <a:off x="7162920" y="3048120"/>
            <a:ext cx="14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traight Connector 16"/>
          <p:cNvSpPr/>
          <p:nvPr/>
        </p:nvSpPr>
        <p:spPr>
          <a:xfrm flipH="1">
            <a:off x="7620120" y="3657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17"/>
          <p:cNvSpPr/>
          <p:nvPr/>
        </p:nvSpPr>
        <p:spPr>
          <a:xfrm flipH="1">
            <a:off x="8077320" y="4191120"/>
            <a:ext cx="144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 flipH="1">
            <a:off x="6629400" y="304812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traight Connector 20"/>
          <p:cNvSpPr/>
          <p:nvPr/>
        </p:nvSpPr>
        <p:spPr>
          <a:xfrm flipH="1">
            <a:off x="7162560" y="365760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21"/>
          <p:cNvSpPr/>
          <p:nvPr/>
        </p:nvSpPr>
        <p:spPr>
          <a:xfrm flipH="1">
            <a:off x="7619760" y="419112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6172200" y="198108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6629400" y="2514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629400" y="3048120"/>
            <a:ext cx="53352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7162920" y="3048120"/>
            <a:ext cx="45720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71629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76201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76201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9"/>
          <p:cNvSpPr/>
          <p:nvPr/>
        </p:nvSpPr>
        <p:spPr>
          <a:xfrm>
            <a:off x="80773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1447920" y="2590920"/>
            <a:ext cx="4647960" cy="4597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ransition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6629400" y="1981080"/>
            <a:ext cx="23623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8534520" y="1371600"/>
            <a:ext cx="4572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7086600" y="2514600"/>
            <a:ext cx="19051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7620120" y="3048120"/>
            <a:ext cx="13716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8077320" y="3657600"/>
            <a:ext cx="91440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8"/>
          <p:cNvSpPr/>
          <p:nvPr/>
        </p:nvSpPr>
        <p:spPr>
          <a:xfrm>
            <a:off x="8534520" y="4191120"/>
            <a:ext cx="457200" cy="53316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ation on 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ws are called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umns are called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valence electrons and bond simi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 isotop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with the same number of protons, but different numbers of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topes determined by mass number (the sum of protons and neutrons in the nucle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number on the periodic table is the average mass of the 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ydrogen 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has three isoto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0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st abunda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u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1 neutr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2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5" descr="isotopes"/>
          <p:cNvPicPr/>
          <p:nvPr/>
        </p:nvPicPr>
        <p:blipFill>
          <a:blip r:embed="rId1"/>
          <a:stretch/>
        </p:blipFill>
        <p:spPr>
          <a:xfrm>
            <a:off x="5319720" y="2957400"/>
            <a:ext cx="26575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 catego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s- shiny, metallic luster, good conductors of electricity and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metals are solid at room temperature except mercury (liqu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s- usually dull in appearance, brittle (can change shape)– be familiar with figure 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ually poor conductors of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are gasses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s- characteristics of metals and nonmetals, found in a stairstep pattern between metals and non-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are solid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alloid Stairste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5" descr="periodic%20table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 and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- mixture with the same chemical properties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- substance whose smallest unit is made up of atoms of two or more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roperties different than the elements that make up the 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hydro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the compound made up of 2 hydrogen atoms and 1 oxygen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2 hydrogen and 2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ing th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fixes: mono-, di-, tri-, quad-, pent- hex-, hepto-, octo-, nono- dec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: -ine, -ane, -ite, -ate, -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practice a few naming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 Discu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 paper tow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d this res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was the liquid state of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per towel was a 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in the cup was the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is matter because it occupies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 thes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ium (Na) + Chlorine (Cl) =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Oxygen (O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Chlorine (Cl) = 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(C) + Oxygen (O) =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ydrogen (H) + 3 Carbon (C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carbons have special naming techniques- we will discuss these techniques in Chapter 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wo substances (elements or compounds) do not combine to make a new substance when m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when you combine oil and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e the bottle I have prepa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kinds of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- the same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Teas, Soda, Fruit flavored soft dr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- larger components that are visibly different from one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Salads, cookies, mixed n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name the parts of a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5 things that are matter and five things that are not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atomic mass and atomic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Isotopes of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n isotope and what makes them possi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An atom of Phosphorous has 15 protons and 15 neutrons, what is the mass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The element Tungsten has a mass number of 184, how many neutrons does Tungsten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homogeneous and heterogeneous mixtu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types of elements are there and give properties of those el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mat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1 on page 72. What in these pictures is mat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anything that has mass and takes up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ome things that are not made up of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mall particle that makes up most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your science journal, draw what you think and atom looks 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one time was believed to be a solid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broken into even smalle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, electron, and 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k philosopher, lived from 460BC to 370 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imed that each type of matter was made up of specific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xample: solid water (ice) is made of different atoms than liquid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ideas were ignored until the early 180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458px-Coypel_Democritus"/>
          <p:cNvPicPr/>
          <p:nvPr/>
        </p:nvPicPr>
        <p:blipFill>
          <a:blip r:embed="rId1"/>
          <a:stretch/>
        </p:blipFill>
        <p:spPr>
          <a:xfrm>
            <a:off x="5950080" y="2362320"/>
            <a:ext cx="2328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voisier’s Con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chemist, lived 2000 years after Democr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of Conservation of Matter- Matter is neither created nor destroyed. It simply change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burn wood, what happens to the lo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Dal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matter is made up of atoms that are too small to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that each element was made up of specific atoms that were unique to that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indings are known as the atomic theory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52:25Z</dcterms:created>
  <dc:creator>Adam's Homepage</dc:creator>
  <dc:description/>
  <dc:language>en-US</dc:language>
  <cp:lastModifiedBy>Adam Goosby</cp:lastModifiedBy>
  <dcterms:modified xsi:type="dcterms:W3CDTF">2010-07-07T21:23:45Z</dcterms:modified>
  <cp:revision>7</cp:revision>
  <dc:subject/>
  <dc:title>Chapter 3</dc:title>
</cp:coreProperties>
</file>